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75F-2D42-4C93-A6E8-0FD245FC2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207-DA32-45CE-999A-EF63DF6A0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3E3-2B28-44B2-B8CB-13259936E3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979-F23B-4CC5-B63D-E016899E8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E4A-D0AC-4816-A9EC-6E7EBA9DB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D09-3A94-4116-A654-8211C6C4BC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85C-D489-402C-B7B2-D9E9F5BEEC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B15-4FA2-4340-AA77-8A028B6E8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055-98EE-44C4-8CF2-EB09693D91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7841-5FBC-4F10-8B99-9BBFE79E2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96A-F6BA-42C6-8007-69BDF92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836-DB80-4B31-8D42-6542FA28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E78-DDB3-49AC-A7A4-1F6373D5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C56-EFFA-44D4-B00F-F404265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72F-6874-488F-8427-69CA946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E2B-C205-4A14-81DD-E1B93BA0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719-3846-4836-8E46-23A5B96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276-9F26-4437-AB63-4C43682E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09A-F55F-47B8-9A5C-D36B412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726-87D9-4695-B462-22128BF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05A-03E9-4C4A-B01A-B64D03A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669-C2EB-4E3F-A6AB-793D2CE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0DF9-915A-4D7D-89D8-69C3077B8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entury"/>
              </a:rPr>
              <a:t>Симплекс-мет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Реализация алгоритма с произвольными свободными чле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147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Основной целью данного проекта является закрепление теоретических знаний в области решения задач базовых линейного программирования симплекс – методом, получившем в литературе также название </a:t>
            </a: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метода последовательного улучшения плана и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реализация поставленной задачи на языке программирования С+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Немного о самом мет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075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Calibri"/>
              </a:rPr>
              <a:t>Симплексный метод</a:t>
            </a:r>
            <a:r>
              <a:rPr b="0" i="1" lang="ru-RU" sz="2700" spc="-1" strike="noStrike">
                <a:solidFill>
                  <a:srgbClr val="404040"/>
                </a:solidFill>
                <a:latin typeface="Calibri"/>
              </a:rPr>
              <a:t> решения задач линейного программирования </a:t>
            </a: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- вычислительная процедура, основанная на принципе последовательного улучшения решений - перехода от одной базисной точки к другой, для которой значение целе­вой функции больше (эти операции фиксируются в симплекс­ной таблице). Доказано, что если оптимальное решение сущест­вует, то оно обязательно будет найдено через конечное число шагов (за исключением так называемой «вырожденной задачи; при которой возможно явление «зацикливания», т. е. много­кратного возврата к одному и тому же положению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Постановка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13336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Необходимо разработать программу, решающую базовую задачу линейного программирования симплекс-методом с помощью симплекс-таблиц. Свободные члены системы ограничений задачи могут быть произволь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Математическое обеспеч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Примером задачи линейного програм-мирования является целевая функция с определенным направлением экстремума и система ограничений для этой целевой функции.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F(X) = 3x1 + 5x2 + 4x3 =&gt; 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0,1x1 + 0,2x2 + 0,4x3 &lt;= 1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0.05x1 + 0.02x2 – 0.02x3 &lt;= 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3x1 + x2 + 2x3 &lt;= 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Левая фигурная скобка 3"/>
          <p:cNvSpPr/>
          <p:nvPr/>
        </p:nvSpPr>
        <p:spPr>
          <a:xfrm>
            <a:off x="826920" y="4437000"/>
            <a:ext cx="720720" cy="1584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18720 h 1584360"/>
              <a:gd name="textAreaBottom" fmla="*/ 15656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0"/>
                  <a:pt x="10800" y="819"/>
                </a:cubicBezTo>
                <a:lnTo>
                  <a:pt x="10800" y="9981"/>
                </a:lnTo>
                <a:cubicBezTo>
                  <a:pt x="10800" y="10391"/>
                  <a:pt x="5400" y="10800"/>
                  <a:pt x="0" y="10800"/>
                </a:cubicBezTo>
                <a:cubicBezTo>
                  <a:pt x="5400" y="10800"/>
                  <a:pt x="10800" y="11210"/>
                  <a:pt x="10800" y="11619"/>
                </a:cubicBezTo>
                <a:lnTo>
                  <a:pt x="10800" y="20781"/>
                </a:lnTo>
                <a:cubicBezTo>
                  <a:pt x="10800" y="2119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Краткий алгоритм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41280" y="2057400"/>
            <a:ext cx="2448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ход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480" y="3143520"/>
            <a:ext cx="2415600" cy="974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опорный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341280" y="4437000"/>
            <a:ext cx="244800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исление оптимального пл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3581280" y="5013360"/>
            <a:ext cx="20876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ча вырожд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ет реше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8"/>
          <p:cNvSpPr/>
          <p:nvPr/>
        </p:nvSpPr>
        <p:spPr>
          <a:xfrm>
            <a:off x="3581280" y="3716280"/>
            <a:ext cx="20876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тимальный план най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0"/>
          <p:cNvSpPr/>
          <p:nvPr/>
        </p:nvSpPr>
        <p:spPr>
          <a:xfrm>
            <a:off x="6516720" y="4322880"/>
            <a:ext cx="237636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ь решения в фай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11"/>
          <p:cNvSpPr/>
          <p:nvPr/>
        </p:nvSpPr>
        <p:spPr>
          <a:xfrm>
            <a:off x="6516720" y="2565360"/>
            <a:ext cx="236232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ткий вывод на экр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2"/>
          <p:cNvSpPr/>
          <p:nvPr/>
        </p:nvSpPr>
        <p:spPr>
          <a:xfrm>
            <a:off x="3510000" y="1700280"/>
            <a:ext cx="2087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лнение из фай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3"/>
          <p:cNvSpPr/>
          <p:nvPr/>
        </p:nvSpPr>
        <p:spPr>
          <a:xfrm>
            <a:off x="3510000" y="2744640"/>
            <a:ext cx="2087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чной в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Прямая со стрелкой 15"/>
          <p:cNvCxnSpPr>
            <a:stCxn id="60" idx="2"/>
            <a:endCxn id="61" idx="0"/>
          </p:cNvCxnSpPr>
          <p:nvPr/>
        </p:nvCxnSpPr>
        <p:spPr>
          <a:xfrm>
            <a:off x="1564920" y="2849040"/>
            <a:ext cx="1080" cy="24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17"/>
          <p:cNvCxnSpPr>
            <a:endCxn id="60" idx="3"/>
          </p:cNvCxnSpPr>
          <p:nvPr/>
        </p:nvCxnSpPr>
        <p:spPr>
          <a:xfrm flipH="1">
            <a:off x="2788920" y="2023560"/>
            <a:ext cx="7214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19"/>
          <p:cNvCxnSpPr>
            <a:stCxn id="68" idx="1"/>
          </p:cNvCxnSpPr>
          <p:nvPr/>
        </p:nvCxnSpPr>
        <p:spPr>
          <a:xfrm flipH="1" flipV="1">
            <a:off x="2788920" y="2451960"/>
            <a:ext cx="7214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21"/>
          <p:cNvCxnSpPr>
            <a:stCxn id="61" idx="3"/>
            <a:endCxn id="64" idx="1"/>
          </p:cNvCxnSpPr>
          <p:nvPr/>
        </p:nvCxnSpPr>
        <p:spPr>
          <a:xfrm>
            <a:off x="2825280" y="3630240"/>
            <a:ext cx="7563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23"/>
          <p:cNvCxnSpPr>
            <a:stCxn id="61" idx="3"/>
            <a:endCxn id="63" idx="1"/>
          </p:cNvCxnSpPr>
          <p:nvPr/>
        </p:nvCxnSpPr>
        <p:spPr>
          <a:xfrm>
            <a:off x="2825280" y="3630600"/>
            <a:ext cx="756360" cy="195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25"/>
          <p:cNvCxnSpPr>
            <a:stCxn id="64" idx="3"/>
            <a:endCxn id="65" idx="1"/>
          </p:cNvCxnSpPr>
          <p:nvPr/>
        </p:nvCxnSpPr>
        <p:spPr>
          <a:xfrm>
            <a:off x="5668560" y="4292640"/>
            <a:ext cx="84852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27"/>
          <p:cNvCxnSpPr>
            <a:stCxn id="64" idx="3"/>
            <a:endCxn id="66" idx="1"/>
          </p:cNvCxnSpPr>
          <p:nvPr/>
        </p:nvCxnSpPr>
        <p:spPr>
          <a:xfrm flipV="1">
            <a:off x="5668560" y="3141000"/>
            <a:ext cx="8485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29"/>
          <p:cNvCxnSpPr>
            <a:stCxn id="63" idx="3"/>
            <a:endCxn id="66" idx="1"/>
          </p:cNvCxnSpPr>
          <p:nvPr/>
        </p:nvCxnSpPr>
        <p:spPr>
          <a:xfrm flipV="1">
            <a:off x="5668560" y="3141360"/>
            <a:ext cx="848520" cy="244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31"/>
          <p:cNvCxnSpPr>
            <a:stCxn id="63" idx="3"/>
            <a:endCxn id="65" idx="1"/>
          </p:cNvCxnSpPr>
          <p:nvPr/>
        </p:nvCxnSpPr>
        <p:spPr>
          <a:xfrm flipV="1">
            <a:off x="5668560" y="4898160"/>
            <a:ext cx="848520" cy="69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33"/>
          <p:cNvCxnSpPr>
            <a:stCxn id="62" idx="3"/>
            <a:endCxn id="64" idx="1"/>
          </p:cNvCxnSpPr>
          <p:nvPr/>
        </p:nvCxnSpPr>
        <p:spPr>
          <a:xfrm flipV="1">
            <a:off x="2789280" y="4292280"/>
            <a:ext cx="792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35"/>
          <p:cNvCxnSpPr>
            <a:stCxn id="62" idx="3"/>
            <a:endCxn id="63" idx="1"/>
          </p:cNvCxnSpPr>
          <p:nvPr/>
        </p:nvCxnSpPr>
        <p:spPr>
          <a:xfrm>
            <a:off x="2789280" y="5013000"/>
            <a:ext cx="792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37"/>
          <p:cNvCxnSpPr>
            <a:stCxn id="61" idx="2"/>
            <a:endCxn id="62" idx="0"/>
          </p:cNvCxnSpPr>
          <p:nvPr/>
        </p:nvCxnSpPr>
        <p:spPr>
          <a:xfrm>
            <a:off x="1564920" y="416988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Пример работы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760320" y="1303200"/>
            <a:ext cx="8055000" cy="5170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2"/>
          <a:stretch/>
        </p:blipFill>
        <p:spPr>
          <a:xfrm>
            <a:off x="760320" y="1303200"/>
            <a:ext cx="8191440" cy="4762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3"/>
          <a:stretch/>
        </p:blipFill>
        <p:spPr>
          <a:xfrm>
            <a:off x="1511280" y="1293840"/>
            <a:ext cx="6553080" cy="4876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"/>
          <p:cNvPicPr/>
          <p:nvPr/>
        </p:nvPicPr>
        <p:blipFill>
          <a:blip r:embed="rId4"/>
          <a:stretch/>
        </p:blipFill>
        <p:spPr>
          <a:xfrm>
            <a:off x="1511280" y="1268280"/>
            <a:ext cx="6553080" cy="520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5968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При написании данного курсового проекта, основная цель поставленной задачи была, несомненно достигнута. Была досконально изучена базовая задача симплекс-метода, и, что еще более важно для меня – был получен огромный опыт и хорошая практика в области программир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Данный проект будет совершенствоваться, и, возможно другая его версия с реализацией метода искуственного базиса и графического интерфейса с использованием кроссплатформенной библиотеки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QT </a:t>
            </a: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будет представлена в следующем году в дипломной </a:t>
            </a:r>
            <a:r>
              <a:rPr b="0" lang="ru-RU" sz="2700" spc="-1" strike="noStrike">
                <a:solidFill>
                  <a:srgbClr val="215968"/>
                </a:solidFill>
                <a:latin typeface="Calibri"/>
              </a:rPr>
              <a:t>рабо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роект защитил студент группы ВТ-3-1 Кафедры ПОВТ и АС Волгоградского Технологического коллед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alibri"/>
              </a:rPr>
              <a:t>Сергей Леви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782520" y="56214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010-201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7:34:10Z</dcterms:created>
  <dc:creator>selevit</dc:creator>
  <dc:description/>
  <dc:language>en-US</dc:language>
  <cp:lastModifiedBy>selevit</cp:lastModifiedBy>
  <dcterms:modified xsi:type="dcterms:W3CDTF">2011-06-08T14:29:22Z</dcterms:modified>
  <cp:revision>23</cp:revision>
  <dc:subject/>
  <dc:title>Презентация PowerPoint</dc:title>
</cp:coreProperties>
</file>